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AE2A7-784E-499A-98A2-D0635BE7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5758F-2091-42E2-845B-4BBC90B3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94672-979E-4FB6-B258-0865573C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E7C22-409D-4AF3-AAA8-D7E56007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81113-00E4-4D69-9320-2D604706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48613-CB12-4F0B-94D6-2018E47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58D36-E403-43CA-9D51-BF0CF6C5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0AD7A-78DF-44A7-AA48-146E752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2B7A8-9B05-4A1C-9088-8D0D60C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76B20-59E2-4676-914D-4AA8AA89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26E39-AF32-4294-A017-FAB87F3A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10E6F-D1B5-4B38-83BD-97AF148B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" name="NeuStar_Small" descr=""/>
          <p:cNvPicPr/>
          <p:nvPr/>
        </p:nvPicPr>
        <p:blipFill>
          <a:blip r:embed="rId3"/>
          <a:stretch/>
        </p:blipFill>
        <p:spPr>
          <a:xfrm>
            <a:off x="7086600" y="6095880"/>
            <a:ext cx="153360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8DC6-2D70-4744-9F24-FAF40CE51B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ff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PAC Performance Discus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1920" y="57146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sented to the LNPA-WG 3/8/200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NeuStar_Small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743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urrent Discussion Topics</a:t>
            </a: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valid CMIP Departure Times on SP requests to the NPAC resulting in association abor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ffect of 1 x 15 retry timer chang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verall NPAC system performance during large volume porting scenari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aking actual porting events as well as non-porting events into accoun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Reasons for Invalid Departure Time Failures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re may be an attempt to violate system securit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systems clocks may not be synchronize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sending system may queue the request for longer than 5 minutes due to system loa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NPAC system may queue the request for longer than 5 minutes due to system loa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Invalid Departure Time Failures (cont)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uring heavy volumes the TCP/IP queue backs up and the departure time expires before the NPAC can service the reques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re are several factors that may cause the NPAC to be unable to service the reques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rvice provider quer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Recovery mode processing from abort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valid departure tim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x5 retry timeout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ovider abort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OA message queu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uplicate service provider requests, resulting in greater system loa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Effects of 1 x 15 Retry Timer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urrent experience is limited (&lt; 1 month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ome reports have suggested that at least 1 retry, i.e. 2 x 8, might be more effectiv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cussion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NPAC Transaction Mix</a:t>
            </a: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ast observation of NPAC logs, etc. have suggested that an unexpectedly large volume of “non-porting” requests are being sent to the NPA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se incl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ss Change request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dividual and Range TN query request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arge numbers of resync-network-data and resync-sv-data requests (from reassociation request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Improvement Strategies</a:t>
            </a: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mip Departure time failur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rial with one SP with timeout set to 20 minutes is underwa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valuate results of that trial in 30 day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euStar will perform additional monitoring and report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 x 15 Retry T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sider 2 x 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ransaction Mix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euStar will perform additional monitoring and report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Guidelines and/or recommendations will be developed after additional data is obtaine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Improvement Timelines</a:t>
            </a: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uStar will provide updated reports to (LNPA-WG?) every 2-4 week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xt report update will incl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data from any invalid departure time occurren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transaction mix da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ssociation restart da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18:16:00Z</dcterms:created>
  <dc:creator>jpope</dc:creator>
  <dc:description/>
  <dc:language>en-US</dc:language>
  <cp:lastModifiedBy>mwhite</cp:lastModifiedBy>
  <cp:lastPrinted>2000-03-08T00:05:37Z</cp:lastPrinted>
  <dcterms:modified xsi:type="dcterms:W3CDTF">2000-03-13T22:22:50Z</dcterms:modified>
  <cp:revision>9</cp:revision>
  <dc:subject/>
  <dc:title>No Slide Title</dc:title>
</cp:coreProperties>
</file>